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88188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777708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69800" y="4520160"/>
            <a:ext cx="777708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50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452016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355000" y="452016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99240" y="195588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28680" y="195588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69800" y="452016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99240" y="452016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28680" y="4520160"/>
            <a:ext cx="250380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69800" y="1955880"/>
            <a:ext cx="7777080" cy="49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777708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379512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355000" y="1955880"/>
            <a:ext cx="379512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55000" y="1955880"/>
            <a:ext cx="379512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69800" y="452016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379512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550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55000" y="452016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55000" y="1955880"/>
            <a:ext cx="379512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69800" y="4520160"/>
            <a:ext cx="7777080" cy="234144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indent="0">
              <a:lnSpc>
                <a:spcPct val="85000"/>
              </a:lnSpc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432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5897520"/>
            <a:ext cx="9144000" cy="960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1369800" y="1955880"/>
            <a:ext cx="7777080" cy="49093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0" bIns="0" anchor="t">
            <a:norm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1840" indent="-28548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4920" indent="-22860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5000"/>
              </a:lnSpc>
              <a:spcAft>
                <a:spcPts val="24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398600"/>
          </a:xfrm>
          <a:prstGeom prst="rect">
            <a:avLst/>
          </a:prstGeom>
          <a:solidFill>
            <a:srgbClr val="f2700e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17906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0880" rIns="20088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77120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urlock Irrigation District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03(d) List Comment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9768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cember 6,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9040"/>
            <a:ext cx="91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bra Liebersbach, P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urlock Irrigation Distr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indy Paulson, P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rown and Cald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732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esticide Data Meet Additive Toxicity Limit and Support Delisting Harding Dr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79520" y="1379520"/>
            <a:ext cx="8335800" cy="5702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346040" y="5388120"/>
            <a:ext cx="704556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303(d) Listing of Don Pedro Reservoir for Mercury is Inappropriat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305000"/>
            <a:ext cx="9150480" cy="137952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182880" bIns="182880" anchor="ctr">
            <a:norm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ta used to list the reservoir are old (1984 to 1987) and suspect (pre-“clean”sampling and analysis techniques, and likely not representative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112120"/>
            <a:ext cx="914400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82880" bIns="18288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nalysis of the data did not follow EPA guidance for a weighted average, so impairment was overst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720600"/>
            <a:ext cx="914544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82880" bIns="18288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ew data should be collected and analyzed to accurately assess impair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ummary and Recommendation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rom Turlock Irrigation Distri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0" t="16032" r="0" b="32661"/>
          <a:stretch/>
        </p:blipFill>
        <p:spPr>
          <a:xfrm>
            <a:off x="6969240" y="0"/>
            <a:ext cx="2174760" cy="1415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472760"/>
            <a:ext cx="9150480" cy="1041480"/>
          </a:xfrm>
          <a:prstGeom prst="rect">
            <a:avLst/>
          </a:prstGeom>
          <a:noFill/>
          <a:ln w="0">
            <a:noFill/>
          </a:ln>
        </p:spPr>
        <p:txBody>
          <a:bodyPr lIns="201240" rIns="201240" tIns="182880" bIns="182880" anchor="ctr">
            <a:norm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ist Harding Drain for ammonia, diazinon, and chlorpyrifos to reflect improvements in water qua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461680"/>
            <a:ext cx="914400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82880" bIns="18288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ongoing local projects to investigate and resolve sources of unknown toxic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551400"/>
            <a:ext cx="9145440" cy="13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82880" bIns="18288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 sufficient time for ongoing local water quality improvement efforts to be completed - do not move up the date for any of the Harding Drain TMD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720680"/>
            <a:ext cx="914400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82880" bIns="18288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list Don Pedro Reservoir for mercury until more accurate data can be collect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grams Are Being Implemented to Improve Harding Drain Water Qua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92680" y="1415880"/>
            <a:ext cx="5236920" cy="3930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631880"/>
            <a:ext cx="3894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09800" bIns="10980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ity of Turlock  wastewater improv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24640"/>
            <a:ext cx="91440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09800" bIns="10980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ition 13 and 50 grant funding obtained to study watershed and implement improv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830680"/>
            <a:ext cx="3894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09800" bIns="10980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ity of Turlock planning to build pipeline to SJ Riv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068720"/>
            <a:ext cx="38941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240" rIns="201240" tIns="109800" bIns="109800" anchor="ctr">
            <a:spAutoFit/>
          </a:bodyPr>
          <a:p>
            <a:pPr marL="461880" indent="-461880">
              <a:lnSpc>
                <a:spcPct val="85000"/>
              </a:lnSpc>
              <a:spcAft>
                <a:spcPts val="2401"/>
              </a:spcAft>
              <a:buClr>
                <a:srgbClr val="cc0f00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arious efforts by state and local interests to improve Ag discharges to the Drai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ime is Needed to Support Local Efforts Underway to Improve Water Quali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582560"/>
            <a:ext cx="914400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cent Data Collected in Harding Drain Support Delist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9720" y="1546200"/>
            <a:ext cx="738648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monia Data Upstream of Harding Drain are Below Chronic Crite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339920"/>
            <a:ext cx="881064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monia Data at Upstream End of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rding Drain Meet Delisting Crite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4280" y="1378080"/>
            <a:ext cx="831672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monia Data at Downstream End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rding Drain meet Delisting Criter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1360" y="1353960"/>
            <a:ext cx="862632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Support Delisting Harding Dra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Chlorpyrif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18576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85760" y="5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11200" y="1351080"/>
            <a:ext cx="8418600" cy="5757840"/>
            <a:chOff x="511200" y="1351080"/>
            <a:chExt cx="8418600" cy="575784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11200" y="1351080"/>
              <a:ext cx="8418600" cy="575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351080" y="5438880"/>
              <a:ext cx="7086600" cy="68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986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txBody>
          <a:bodyPr lIns="201240" rIns="0" tIns="46800" bIns="4680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ata Support Delisting Harding Drain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 Diazin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20560" y="1379520"/>
            <a:ext cx="8480520" cy="5800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2400" y="5337000"/>
            <a:ext cx="72594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3T22:46:06Z</dcterms:created>
  <dc:creator>Marc Rappaport</dc:creator>
  <dc:description/>
  <dc:language>en-US</dc:language>
  <cp:lastModifiedBy>Jenny Gain</cp:lastModifiedBy>
  <cp:lastPrinted>2001-06-27T18:59:44Z</cp:lastPrinted>
  <dcterms:modified xsi:type="dcterms:W3CDTF">2005-12-06T01:15:41Z</dcterms:modified>
  <cp:revision>396</cp:revision>
  <dc:subject/>
  <dc:title>No Slide Title</dc:title>
</cp:coreProperties>
</file>